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7F3-981A-4A35-8D6E-20573A68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277-5CB8-4B14-8B4D-01C92BA8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9D9-FAF9-4856-8411-6079D7C1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2CB-689D-4294-ABC4-79EFBCFA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6CA-79F9-4C1D-BD71-7EF3ADB3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99D-F069-4F6F-AC9C-79EADB25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93E-6DB9-403C-8EED-A41D6794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954-4A73-41C5-8E46-88E32631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386-79DC-4D2A-8371-9E478B54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2A4-AB94-451E-BA4F-68B63A24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E8A-948F-4F53-A9EB-BB3F917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188-01C9-453B-A7C1-772A87BA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A662-1416-4C0A-A73E-B82B888FF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and for loops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ToTen program page 1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=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(number &lt;= 10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ToTen = oneToTen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.toString(number) + “ “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++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the concept of this while loop – each trip/pass through the loop adds one to number and adds to oneT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greater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= not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less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= less than eq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= equal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= reat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program page 15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s slider to input number of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 = 1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counter &lt;= numberOfBoxes)//whil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.drawRect ( x, 10,10,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= 1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be aware of off by one errors – going through loop an extra time or one less time than you should – programmers responsibi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loop – used when known passes of iterations through the loop requ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number &lt;=10; // final pass made when number = 10 then drop out of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 number   … number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 count = 0; count &lt; 20; count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body of loop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of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, y, radi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random.nextInt (200); // 0 to 199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random.nextInt(2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.fillOval( x,y, radius, radi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// loop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or not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&amp; logical and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|   logical or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    not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page 158 uses for loops and and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– while loo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ways goes through loop 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at bottom of loop unlike for and while loop which test at top of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2 = random.nextInt (10) +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number1 = number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( int apartment = 1; apartment &lt;=5; apartment++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code for one a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 floor + 1 ; floor &lt;=3; floor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code for one floor Code on page 162 with details for apartments and fl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3:40:32Z</dcterms:created>
  <dc:creator> </dc:creator>
  <dc:description/>
  <dc:language>en-US</dc:language>
  <cp:lastModifiedBy> </cp:lastModifiedBy>
  <dcterms:modified xsi:type="dcterms:W3CDTF">2005-05-01T23:42:52Z</dcterms:modified>
  <cp:revision>2</cp:revision>
  <dc:subject/>
  <dc:title>Repetition Chapter 8</dc:title>
</cp:coreProperties>
</file>